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65C-D312-4926-930D-171B301F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5B0-0984-4E06-BCD6-2B060168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444-83EF-4F24-8B5F-7D742820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496-CC74-4668-B506-F11A0BF9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999-21C8-4B99-9603-66114CE6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951-BF1A-45F0-8A8E-EB80D351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A30-3ABF-49A5-BAC6-52A45253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302-9D1D-40AD-89F8-4B4FA5CB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20E-28B6-47B2-A7AC-92D09A72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F5BB-51E6-4759-8BA5-15523B4D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36C-CABC-4B4F-8724-E6D30D56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58E-A9D1-4B77-A280-107A63CF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ccff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9CCC-835C-4BB4-9137-AC42AD5E5F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Тема урока:</a:t>
            </a: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очинение-описание памятника архитектуры</a:t>
            </a:r>
            <a:br>
              <a:rPr sz="3200"/>
            </a:b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Храм Василия Блаженного</a:t>
            </a:r>
            <a:br>
              <a:rPr sz="3200"/>
            </a:b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8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99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продолжить знакомство</a:t>
            </a:r>
            <a:r>
              <a:rPr b="0" lang="ru-RU" sz="3200" spc="-1" strike="noStrike">
                <a:solidFill>
                  <a:srgbClr val="6666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с архитектурными памятниками Ро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познакомиться с отличительными архитектурными особенностями храма Василия Блаженно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развивать умение воспроизводить архитектурные детали памятни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воспитание эстетического вку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рам-памятник начал строиться в 1554 году в ознамен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ликой победы: русское войско штурмом взяло Казань. Каме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бор Покрова теперь известен как храм Василия Блаженного, п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и юродивого, похороненного у стен соб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емь столпов храма окружают девятый. Каждый куп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игинален, неповторим. Центральный храм венчает шатер. Э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истине сказочно красивое здание, изумляющее сво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рядностью, неожиданностью замыс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5562720" y="3886200"/>
            <a:ext cx="2755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Слово учител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Наше знакомство с храмом Василия Блаженного подходит 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концу, и мне остается пожелать вам мысленно соверши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экскурсию в красивейший архитектурный памятник России – хра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Василия Блаженного, а потом письменно подели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впечатлениями от увиденного и услышанного о н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Памятники – это наша история и наша память, и мне кажет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пока мы помним об истории страны, мы продолжаем ее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Желаю вам успех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5715000" y="4419720"/>
            <a:ext cx="2527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1. Организационный мо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2. Словарная раб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3. Работа в групп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4. Представление итогов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5. Работа с чернов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6. Написание сочинения-опис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Script MT Bold"/>
              </a:rPr>
              <a:t>Словарн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Зодч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Архитектура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Юродивый, блажен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Храм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Собор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Столп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одкле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ридел</a:t>
            </a:r>
            <a:r>
              <a:rPr b="0" i="1" lang="ru-RU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4572000" y="3276720"/>
            <a:ext cx="334008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1676520" y="533520"/>
            <a:ext cx="624816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Изучите источники информации о истории создания храма Василия Блажен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Отберите материал, который можно использовать для вступления, главной части и заключения сочинения-опис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Подготовьте его представление для учащихся другой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828800" y="2286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1 групп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6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6324480" y="4800600"/>
            <a:ext cx="19051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огда был создан хр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то его авто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акое впечатление он производит на смотрящи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828800" y="457200"/>
            <a:ext cx="54100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2 групп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6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4800600" y="3792600"/>
            <a:ext cx="3137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октябре 1552 года Москва стала свидетельницей невиданного до того всенародного торжества. Из-под стен взятой штурмом Казани вернулись русские войска во главе с Иваном Грозным. В ознаменование этой великой победы царь решил построить в Москве храм-памятник. Через два года началось сооружение каменного собора Покрова. Позднее он был назван храмом Василия Блаженного, по имени погребенного к его стен юродив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о удивительное сооружение поражает своей оригинальностью. Необыкновенный цветок его причудливых форм, объединенных центральным шатром, не только напоминает многоглавую группу кремлевских соборов , но и парит над широко раскинувшимся простором площади.  Собор состоит из восьми столпов, окружающих девятый. Столпы-храмы стоят на широком подклете сложного звездчатого очертания. Это невиданно нарядное, праздничное сооружение похожее на гигантское растение или цветущий ку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066680" y="533520"/>
            <a:ext cx="64771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риалы для групп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нтральный храм увенчан шатром, приделы, расположенные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оронам света, башнеобразной формы, несколько напомина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окольню Ивана Великого. При обходе храма перед зрителем 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растает стройная грандиозная пирамида храма, увенчанная шатром,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ням которого бегут ввысь золоченые спирали, то отчетлив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новятся его растущие вверх башнеобразные объемы. Замысловат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тали придают храму нарядный и сказочный вид. Несомненно, в э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ме воплощены народные представления о великой поэтиче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соте архитек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ена создателей Василия Блаженного со временем забылись, и толь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онц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ека были обнаружены старинные рукописи с рассказом 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ногих подробностях сооружения собора, в том числе о его строителях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ирме и Постнике, талантливых русских зодчих. Легенда гласит, что пос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ончания строительства Иван Грозный спросил зодчих, смогут ли о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еще один точно тайкой храм. Те ответили, что смогут. И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арь приказал ослепить их, чтобы не могло возникнуть соперника е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ahoma"/>
              </a:rPr>
              <a:t>Вариант сообщения учащего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ам Василия Блаженного находится в самом центре нашей столиц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дно из сооружений, ограничивающих пространство Крас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. Храм поражает своей необычностью, оригинальностью. 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хож на яркую гигантскую игрушку, собранную из разных час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ьими-то талантливыми ру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создали храм русские зодчие Барма и Постник, поплатившиеся 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гениальное произведение своим зрением. По легенде, царь Ив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озный велел ослепить зодчих, чтобы они не смогли построить ч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будь подобное. Храм остался уникальным сооружением, которым любуются люди уже в течение четырех с половиной ве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28T13:29:57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