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EA2-CCC2-410B-BEB1-9484844C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E18-B6C0-4C21-AAE0-0E9EF7D2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8C6-9911-404F-A2F1-222AE128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DC6-1E71-4393-8566-382CDD56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5F0-EA12-4AED-9705-6F5F469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028-DFB7-4DA1-8B61-2B632F6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223-6665-4156-8825-C3272FD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4E5-5BA8-4890-A315-4E5E025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2B2-58A4-43E2-A965-CE501041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64C-9E6A-4C35-8116-62C2255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348-AAD6-4823-886C-5967526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AFD-9FA3-488F-8F98-13D32143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cc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08E-AC73-452B-B618-1E7C613932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Тема урока: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сочинение-описание памятника архитектуры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Храм Василия Блаженного</a:t>
            </a:r>
            <a:br>
              <a:rPr sz="3200"/>
            </a:b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8 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99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родолжить знакомство</a:t>
            </a:r>
            <a:r>
              <a:rPr b="0" lang="ru-RU" sz="3200" spc="-1" strike="noStrike">
                <a:solidFill>
                  <a:srgbClr val="6666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с архитектурными памятниками Ро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познакомиться с отличительными архитектурными особенностями храма Василия Блажен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развивать умение воспроизводить архитектурные детали памятн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Tahoma"/>
              </a:rPr>
              <a:t>воспитание эстетического вку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ам-памятник начал строиться в 1554 году в ознамен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ликой победы: русское войско штурмом взяло Казань. Кам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ор Покрова теперь известен как храм Василия Блаженного, 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и юродивого, похороненного у стен соб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семь столпов храма окружают девятый. Каждый куп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гинален, неповторим. Центральный храм венчает шатер.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истине сказочно красивое здание, изумляющее сво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ядностью, неожиданностью замы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562720" y="3886200"/>
            <a:ext cx="27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ahoma"/>
              </a:rPr>
              <a:t>Слово учител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Наше знакомство с храмом Василия Блаженного подходит 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концу, и мне остается пожелать вам мысленно соверш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экскурсию в красивейший архитектурный памятник России – х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асилия Блаженного, а потом письменно подели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впечатлениями от увиденного и услышанного о н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амятники – это наша история и наша память, и мне кажет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пока мы помним об истории страны, мы продолжаем ее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33cc"/>
                </a:solidFill>
                <a:latin typeface="Tahoma"/>
              </a:rPr>
              <a:t>Желаю вам успех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5715000" y="4419720"/>
            <a:ext cx="2527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2. Словар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3. Работа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4. Представление итогов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5. Работа с чернов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6. Написание сочинения-опис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Script MT Bold"/>
              </a:rPr>
              <a:t>Словар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Зод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Архитектура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Юродивый, блаж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рам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обор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Столп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одк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Придел</a:t>
            </a:r>
            <a:r>
              <a:rPr b="0" i="1" lang="ru-RU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572000" y="3276720"/>
            <a:ext cx="334008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1676520" y="533520"/>
            <a:ext cx="6248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Изучите источники информации о истории создания храма Василия Блаж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тберите материал, который можно использовать для вступления, главной части и заключения сочинения-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Подготовьте его представление для учащихся другой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1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6324480" y="4800600"/>
            <a:ext cx="1905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огда был создан хр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то его авт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Какое впечатление он производит на смотрящ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28800" y="457200"/>
            <a:ext cx="541008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ния 2 групп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6" descr="6666666666"/>
          <p:cNvPicPr/>
          <p:nvPr/>
        </p:nvPicPr>
        <p:blipFill>
          <a:blip r:embed="rId1"/>
          <a:srcRect l="0" t="0" r="31814" b="0"/>
          <a:stretch/>
        </p:blipFill>
        <p:spPr>
          <a:xfrm>
            <a:off x="4800600" y="3792600"/>
            <a:ext cx="3137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октябре 1552 года Москва стала свидетельницей невиданного до того всенародного торжества. Из-под стен взятой штурмом Казани вернулись русские войска во главе с Иваном Грозным. В ознаменование этой великой победы царь решил построить в Москве храм-памятник. Через два года началось сооружение каменного собора Покрова. Позднее он был назван храмом Василия Блаженного, по имени погребенного к его стен юродив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удивительное сооружение поражает своей оригинальностью. Необыкновенный цветок его причудливых форм, объединенных центральным шатром, не только напоминает многоглавую группу кремлевских соборов , но и парит над широко раскинувшимся простором площади.  Собор состоит из восьми столпов, окружающих девятый. Столпы-храмы стоят на широком подклете сложного звездчатого очертания. Это невиданно нарядное, праздничное сооружение похожее на гигантское растение или цветущий ку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066680" y="533520"/>
            <a:ext cx="64771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риалы для груп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нтральный храм увенчан шатром, приделы, расположенные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оронам света, башнеобразной формы, несколько напомин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окольню Ивана Великого. При обходе храма перед зрителем 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растает стройная грандиозная пирамида храма, увенчанная шатром,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ям которого бегут ввысь золоченые спирали, то отчетлив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овятся его растущие вверх башнеобразные объемы. Замысловат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тали придают храму нарядный и сказочный вид. Несомненно, в э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е воплощены народные представления о великой поэт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соте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ена создателей Василия Блаженного со временем забылись, и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нц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ека были обнаружены старинные рукописи с рассказом 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ногих подробностях сооружения собора, в том числе о его строителях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ирме и Постнике, талантливых русских зодчих. Легенда гласит, что пос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ончания строительства Иван Грозный спросил зодчих, смогут ли о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еще один точно тайкой храм. Те ответили, что смогут. И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арь приказал ослепить их, чтобы не могло возникнуть соперника е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Tahoma"/>
              </a:rPr>
              <a:t>Вариант сообщения учащего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ам Василия Блаженного находится в самом центре нашей столиц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дно из сооружений, ограничивающих пространство Крас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. Храм поражает своей необычностью, оригинальностью. 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хож на яркую гигантскую игрушку, собранную из разных час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ьими-то талантливыми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создали храм русские зодчие Барма и Постник, поплатившиеся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гениальное произведение своим зрением. По легенде, царь Ив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зный велел ослепить зодчих, чтобы они не смогли построить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будь подобное. Храм остался уникальным сооружением, которым любуются люди уже в течение четырех с половиной ве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8T13:29:57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