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2DC-B370-4278-83AF-5987A027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5EF-39A8-4E1C-8BCB-59DF4BF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1F7-D6F2-4F00-BBE3-52B28AD7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9EF-4E39-49E9-8E58-6F4DE22F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5EB-7067-47E8-AD9B-C08822B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581-70C9-4F2E-B18D-876ED17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2BB-9BDE-4E7D-BC41-2985689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95E-0003-4F16-83EA-C2ADBC3F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7DA-4664-4657-B094-F23CEE08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6F7-4864-4E38-8EE3-2D35696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40F-B901-4E05-A5B2-DF9A729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423-F3FA-46FD-B54E-9724F91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FEAF-7A4D-4C18-AFD4-182A09CFE9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очинение-описание памятника архитектуры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Храм Василия Блаженного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8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родолжить знакомство</a:t>
            </a:r>
            <a:r>
              <a:rPr b="0" lang="ru-RU" sz="32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с архитектурными памятниками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ознакомиться с отличительными архитектурными особенностями храма Василия Блажен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развивать умение воспроизводить архитектурные детали памятн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воспитание эстетического вку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м-памятник начал строиться в 1554 году в ознаме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й победы: русское войско штурмом взяло Казань. Кам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ор Покрова теперь известен как храм Василия Блаженного,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и юродивого, похороненного у стен со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емь столпов храма окружают девятый. Каждый куп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гинален, неповторим. Центральный храм венчает шатер.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истине сказочно красивое здание, изумляющее сво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ядностью, неожиданностью замы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562720" y="3886200"/>
            <a:ext cx="27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Слово учи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Наше знакомство с храмом Василия Блаженного подходит 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концу, и мне остается пожелать вам мысленно соверш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экскурсию в красивейший архитектурный памятник России – х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асилия Блаженного, а потом письменно подели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печатлениями от увиденного и услышанного о 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амятники – это наша история и наша память, и мне кажет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ока мы помним об истории страны, мы продолжаем ее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Желаю вам успех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715000" y="4419720"/>
            <a:ext cx="2527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2. Словар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3. Работа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4. Представление итогов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5. Работа с чернов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6. Написание сочинения-о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Script MT Bold"/>
              </a:rPr>
              <a:t>Словар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Зод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Архитектура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Юродивый, блаж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Храм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обор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толп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одк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ридел</a:t>
            </a:r>
            <a:r>
              <a:rPr b="0" i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572000" y="3276720"/>
            <a:ext cx="3340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1676520" y="533520"/>
            <a:ext cx="6248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Изучите источники информации о истории создания храма Василия Блаж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тберите материал, который можно использовать для вступления, главной части и заключения сочинения-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Подготовьте его представление для учащихся другой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1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6324480" y="4800600"/>
            <a:ext cx="1905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огда был создан хр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то его авт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акое впечатление он производит на смотрящ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28800" y="457200"/>
            <a:ext cx="5410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2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800600" y="3792600"/>
            <a:ext cx="3137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октябре 1552 года Москва стала свидетельницей невиданного до того всенародного торжества. Из-под стен взятой штурмом Казани вернулись русские войска во главе с Иваном Грозным. В ознаменование этой великой победы царь решил построить в Москве храм-памятник. Через два года началось сооружение каменного собора Покрова. Позднее он был назван храмом Василия Блаженного, по имени погребенного к его стен юроди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удивительное сооружение поражает своей оригинальностью. Необыкновенный цветок его причудливых форм, объединенных центральным шатром, не только напоминает многоглавую группу кремлевских соборов , но и парит над широко раскинувшимся простором площади.  Собор состоит из восьми столпов, окружающих девятый. Столпы-храмы стоят на широком подклете сложного звездчатого очертания. Это невиданно нарядное, праздничное сооружение похожее на гигантское растение или цветущий ку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066680" y="533520"/>
            <a:ext cx="6477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риалы для груп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храм увенчан шатром, приделы, расположенные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оронам света, башнеобразной формы, несколько напомин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окольню Ивана Великого. При обходе храма перед зрителем 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стает стройная грандиозная пирамида храма, увенчанная шатром,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ям которого бегут ввысь золоченые спирали, то отчетлив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овятся его растущие вверх башнеобразные объемы. Замыслова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али придают храму нарядный и сказочный вид. Несомненно, в э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е воплощены народные представления о великой поэт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е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на создателей Василия Блаженного со временем забылись, и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ека были обнаружены старинные рукописи с рассказом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х подробностях сооружения собора, в том числе о его строителях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рме и Постнике, талантливых русских зодчих. Легенда гласит, что по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нчания строительства Иван Грозный спросил зодчих, смогут ли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еще один точно тайкой храм. Те ответили, что смогут. И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арь приказал ослепить их, чтобы не могло возникнуть соперника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ahoma"/>
              </a:rPr>
              <a:t>Вариант сообщения учащего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м Василия Блаженного находится в самом центре нашей стол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дно из сооружений, ограничивающих пространство Кра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. Храм поражает своей необычностью, оригинальностью. 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ж на яркую гигантскую игрушку, собранную из разных час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ьими-то талантливы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оздали храм русские зодчие Барма и Постник, поплатившиеся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гениальное произведение своим зрением. По легенде, цар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зный велел ослепить зодчих, чтобы они не смогли построить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будь подобное. Храм остался уникальным сооружением, которым любуются люди уже в течение четырех с половиной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8T13:29:5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